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117E-3A21-4B48-80A2-C406A5D837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23BD-AB18-4B1F-BA36-27FEC5C8A47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F62A-5629-4C12-B34C-9666724A1F55}"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DF7DB-150F-4F23-9762-B915EE3B1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E4F4-BF0A-4C71-BF13-4B228D95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B16B0-F6FD-4D25-B3D0-3857625E5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88BCA-F42C-4095-8A94-3B90C0360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B7080-ECDA-4B5C-8234-325E32FE3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5BFD5-8052-42DB-8DB2-B28D31E21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CC44B-820C-4DE5-ABC2-AD244B0D5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74A29-8ED0-4D6A-80A2-157897E2A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7F63E-7F8D-438E-9292-22E873604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3A136-E668-41F9-98B9-F8B3E7779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1B53C-5FC9-4B43-9FFA-477AC38D1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EEE8-0BBA-4CA0-9DA5-AE0844862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76D38-407D-4F1F-9500-16CD523BC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204ED-2DAB-4BF2-8E53-DFE887138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B44CA-8909-4844-90F8-69154C431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EB673-7C04-4D09-9546-1204E6488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1091C-7A8E-45A0-8B87-FD0866879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E7B5BC-8DFD-4F9A-9F20-0A536BC53E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C4449-9FF4-4F45-A4D4-1BC6A89F3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4E8EE4-78B8-4AB4-99A0-F710AA62D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B069D-DC09-42F4-80E3-69B5E0F9E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55423-3FF1-421D-BAC5-B2D74F7FD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4002-13C6-4BF6-837A-F97CAE427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7F3B0-633A-4CDC-97B2-2D88A85C5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4F480-2442-4472-BFB8-75E10C659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C9E66-C634-4C35-912D-900C38B73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B8846-4ADB-4DFA-A3E4-7907B6B8F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87581-D862-4CF3-8E7E-774586E49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8D3663-6385-4877-ACB3-4845167B13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7F3F54-7E82-4135-AB82-AC27D7D8C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25F63-D17A-4373-A32E-D78CB00990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E8041-7217-46F7-93C2-236EB670E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6D9CDF-FDC5-47A6-8B76-8FD716389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EB7EF-0D89-4A4B-A5D9-E9270A004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FCE3F-D011-4966-AD3E-1E2A741AE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2E441-B27C-4899-9EFE-1CFACB3E0A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93CC0-A2B8-4830-B83A-74A6F0FCD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421EB-6CD6-455D-A5DA-557E3B965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05681-A632-4ECF-80CF-4106AB389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E3BE8-BFEF-4F6D-9EDE-63B5CCD6F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8CDD7-E656-4423-8760-9B647CCB1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3ED1A5-04E3-4E11-9778-3D0587AF5C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6BE43-E721-47C7-836B-20DFD831A1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31A08D-B1D4-47D6-A46E-2B4A42E9F3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23A6B-1387-49BD-A375-8412F3F86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519C0-F9C2-4173-AC00-2E2CB8D65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FF6445-A249-4B54-9D04-7FD2A44B0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72ADA4-EAD7-4263-9AB6-779EC3C2D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D341CD-6D2D-4E06-8285-907D28115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04F42-D42E-4A64-8EF3-1349B8F5F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ECA88-E09B-4880-AAE1-2AF57F153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91DF0-E032-4303-8B64-39AF90DB4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D66ED-E6D7-4C16-90E3-BED341BFD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C12ED-95C0-465F-91EA-698BCDC66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61A5D-73F8-456C-ABF5-0EB5D542BA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08743-D5F6-4B6E-A1DE-7F790F553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FE8FF0-CCE2-41B7-8655-1475CE80F8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43A0-927E-4FA3-8441-5ADC0024E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D18D-DB54-4C22-89B5-01702533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8CDD-D03E-43F1-94D3-37513ADBE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B8DD-7DC9-43AC-8AA9-C42EEAF0AE2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EF98-78B8-4DC1-BCEB-31BEC977A53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4382-58C0-4ABA-9603-C5A31291559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A006-F4F1-4ADE-A3E8-23380D92BE3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BA2D-503D-45AD-8B18-D8AA278168B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0280" y="1255680"/>
            <a:ext cx="8461440" cy="201132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210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Transaction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the buying of products from manufacturers/producers; the risk that taken on by the intermediary in buying on speculation that some consumer will want to eventually buy these products from the intermediary; and the eventual selling of products to consume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Logistic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mixing up the various products from different manufacturers (assorting); Moving and keeping the product safe from loss (shipping and storing) and breaking down the large quantities of products that manufacturers send in, into managable size quantities to be shipped to retailers/consumers (sort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Facilitating Functions</a:t>
            </a:r>
            <a:r>
              <a:rPr b="0" lang="en-GB" sz="2600" spc="-1" strike="noStrike">
                <a:solidFill>
                  <a:srgbClr val="000000"/>
                </a:solidFill>
                <a:latin typeface="Constantia"/>
              </a:rPr>
              <a:t> -- These functions involve making it easy for the retailers/consumers to buy the products. Two of the primary roles here involve providing financing, and providing marketing/product information to retailers and/or consum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ypes of Wholesale Intermediaries</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enerally there are two types of wholesa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ll line/service wholesalers -- ones that provide all of the three major fun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imited line/service wholesalers -- ones that provide only a limited number of func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gents vs. Broker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ents work for the manufacture and look after their interes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Brokers work for their customers and seek the best possible deal from manufactur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Vertical Marketing Systems - Overview</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ertical marketing systems are formalized links between each manufacturer/ intermediary in a marketing chann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formalized links can take one of three for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rporate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tractual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dministered Syst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1)</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rporate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owned by a single own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Irving group of companies is an excellent illustration of a corporate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Irving refines oil, ships oil in Irving tankers and trucks, distributes it through Irving terminals, to Irving service sta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e:  “I Like To See the Wheels Turn: The K.C. Irving Story” National Film Boar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2)</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ntractual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under contract with each other to supply/buy product from each o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is structure is commonly found in Canada and the Franchi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g: MacDonal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3)</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ministered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member of the marketing channel is so large that it dominated all of the other member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al-Mart can achieve economies by its sheer size relative to its suppliers.  It can force its suppliers to become more efficient and therefore pass the resulting savings along to consumers.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228240"/>
            <a:ext cx="838188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6" name=""/>
          <p:cNvSpPr txBox="1"/>
          <p:nvPr/>
        </p:nvSpPr>
        <p:spPr>
          <a:xfrm>
            <a:off x="457200" y="1785600"/>
            <a:ext cx="8229600" cy="4344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eciding in whether a manufacturer offers its products through a short - direct channel or a longer - indirect channel is contingent on several key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nvironmental factors</a:t>
            </a:r>
            <a:r>
              <a:rPr b="0" lang="en-GB" sz="2400" spc="-1" strike="noStrike">
                <a:solidFill>
                  <a:srgbClr val="000000"/>
                </a:solidFill>
                <a:latin typeface="Constantia"/>
              </a:rPr>
              <a:t>: Effects of changes in society, the economy, technology, competition and regulation all impact upon the choice of channe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s of Distribution</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A Channel of Distribution, or Marketing Channel, is the route that a product follows in order to pass from the manufacturer to the ultimate consumer</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8" name=""/>
          <p:cNvSpPr txBox="1"/>
          <p:nvPr/>
        </p:nvSpPr>
        <p:spPr>
          <a:xfrm>
            <a:off x="380880" y="213336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sumer Factors</a:t>
            </a:r>
            <a:r>
              <a:rPr b="0" lang="en-GB" sz="2400" spc="-1" strike="noStrike">
                <a:solidFill>
                  <a:srgbClr val="000000"/>
                </a:solidFill>
                <a:latin typeface="Constantia"/>
              </a:rPr>
              <a:t>: Sometimes consumers dictate the choice of channel required.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y bar manufacturer Cadbury, for example, needs to sell its products everywhere.  People are generally not willing to look too hard or wait too long to buy an impulse item like a candy bar.  Therefore and Indirect Channel is best for distributing candy bars everywhe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6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0"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duct Factors</a:t>
            </a:r>
            <a:r>
              <a:rPr b="0" lang="en-GB" sz="2400" spc="-1" strike="noStrike">
                <a:solidFill>
                  <a:srgbClr val="000000"/>
                </a:solidFill>
                <a:latin typeface="Constantia"/>
              </a:rPr>
              <a:t>: certain products are not sold in sufficient volume to warrant wide distribution -- therefore a more direct chann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U nuclear reactors do not sell in large volume ( 1 a year ?) Therefore a large distribution network is not required and a direct channel (Manufacturer --&gt; Consumer) is most appropriat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2"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mpany Factors</a:t>
            </a:r>
            <a:r>
              <a:rPr b="0" lang="en-GB" sz="2400" spc="-1" strike="noStrike">
                <a:solidFill>
                  <a:srgbClr val="000000"/>
                </a:solidFill>
                <a:latin typeface="Constantia"/>
              </a:rPr>
              <a:t>: A company may choose to sell a certain way using a certain channel strateg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L. Bean sells through direct mail only.  L.L. Bean may be large and popular enough to set up retail sores as other competitors such as Eddie Bauer have chosen to do,  but L.L. Bean have chosen not to pursue the retail op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 Design Consideration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en Designing a Marketing Channel consider the follow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erve/cover the target mark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atisfy buyer requir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ich Channel design will yield the most prof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7"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hysical Distribution focuses on the distribution of products from the manufacturer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ogistics has a broader focus.  Logistics encompasses the flow of raw material to the manufacturer as well as the physical distribution of the finished product to the consum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10" name="Line 4"/>
          <p:cNvSpPr/>
          <p:nvPr/>
        </p:nvSpPr>
        <p:spPr>
          <a:xfrm>
            <a:off x="1447920" y="37339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1" name="Rectangle 5"/>
          <p:cNvSpPr/>
          <p:nvPr/>
        </p:nvSpPr>
        <p:spPr>
          <a:xfrm>
            <a:off x="3505320" y="3124080"/>
            <a:ext cx="220968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facturer</a:t>
            </a:r>
            <a:endParaRPr b="0" lang="en-US" sz="2400" spc="-1" strike="noStrike">
              <a:solidFill>
                <a:srgbClr val="000000"/>
              </a:solidFill>
              <a:latin typeface="Verdana"/>
            </a:endParaRPr>
          </a:p>
        </p:txBody>
      </p:sp>
      <p:sp>
        <p:nvSpPr>
          <p:cNvPr id="312" name="Oval 8"/>
          <p:cNvSpPr/>
          <p:nvPr/>
        </p:nvSpPr>
        <p:spPr>
          <a:xfrm>
            <a:off x="45720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3" name="Oval 9"/>
          <p:cNvSpPr/>
          <p:nvPr/>
        </p:nvSpPr>
        <p:spPr>
          <a:xfrm>
            <a:off x="693432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4"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 Material</a:t>
            </a:r>
            <a:endParaRPr b="0" lang="en-US" sz="2400" spc="-1" strike="noStrike">
              <a:solidFill>
                <a:srgbClr val="000000"/>
              </a:solidFill>
              <a:latin typeface="Verdana"/>
            </a:endParaRPr>
          </a:p>
        </p:txBody>
      </p:sp>
      <p:sp>
        <p:nvSpPr>
          <p:cNvPr id="315"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a:t>
            </a:r>
            <a:endParaRPr b="0" lang="en-US" sz="2400" spc="-1" strike="noStrike">
              <a:solidFill>
                <a:srgbClr val="000000"/>
              </a:solidFill>
              <a:latin typeface="Verdana"/>
            </a:endParaRPr>
          </a:p>
        </p:txBody>
      </p:sp>
      <p:sp>
        <p:nvSpPr>
          <p:cNvPr id="316"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7" name=""/>
          <p:cNvSpPr txBox="1"/>
          <p:nvPr/>
        </p:nvSpPr>
        <p:spPr>
          <a:xfrm rot="16223400">
            <a:off x="4637880" y="2297160"/>
            <a:ext cx="238320" cy="5823000"/>
          </a:xfrm>
          <a:prstGeom prst="rect">
            <a:avLst/>
          </a:prstGeom>
          <a:noFill/>
          <a:ln w="9360">
            <a:solidFill>
              <a:srgbClr val="000000"/>
            </a:solidFill>
            <a:round/>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ion</a:t>
            </a:r>
            <a:endParaRPr b="0" lang="en-US" sz="2400" spc="-1" strike="noStrike">
              <a:solidFill>
                <a:srgbClr val="000000"/>
              </a:solidFill>
              <a:latin typeface="Verdana"/>
            </a:endParaRPr>
          </a:p>
        </p:txBody>
      </p:sp>
      <p:sp>
        <p:nvSpPr>
          <p:cNvPr id="319"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g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Importance of Logistics Depends on..</a:t>
            </a:r>
            <a:endParaRPr b="0" lang="en-US" sz="4500" spc="-1" strike="noStrike">
              <a:solidFill>
                <a:srgbClr val="04617b"/>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number, weight, volume, and perish ability of the product. (Product Fac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terial supply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nufacturing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consumption poi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Logistics and Marketing Strategy Interact</a:t>
            </a:r>
            <a:endParaRPr b="0" lang="en-US" sz="4500" spc="-1" strike="noStrike">
              <a:solidFill>
                <a:srgbClr val="04617b"/>
              </a:solidFill>
              <a:latin typeface="Calibri"/>
            </a:endParaRPr>
          </a:p>
        </p:txBody>
      </p:sp>
      <p:sp>
        <p:nvSpPr>
          <p:cNvPr id="325" name="PlaceHolder 2"/>
          <p:cNvSpPr>
            <a:spLocks noGrp="1"/>
          </p:cNvSpPr>
          <p:nvPr>
            <p:ph/>
          </p:nvPr>
        </p:nvSpPr>
        <p:spPr>
          <a:xfrm>
            <a:off x="456840" y="1828800"/>
            <a:ext cx="8178840" cy="422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duct Factors - The number, weight, volume, and perish ability of the produc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cing Factors- Costs of shipping and storage &amp; discou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ional Factors - Ads and promotion must be timed with logistical factors so that the product is availab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lace Factors - Transportation and storage issu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Objectives of a good Logistical System.</a:t>
            </a:r>
            <a:endParaRPr b="0" lang="en-US" sz="4500" spc="-1" strike="noStrike">
              <a:solidFill>
                <a:srgbClr val="04617b"/>
              </a:solidFill>
              <a:latin typeface="Calibri"/>
            </a:endParaRPr>
          </a:p>
        </p:txBody>
      </p:sp>
      <p:sp>
        <p:nvSpPr>
          <p:cNvPr id="3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re has to be a trade off made between minimizing logistical costs of moving and storage and maximizing the service to the customer.</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otal Logistics Cost Concept</a:t>
            </a: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ries to balance the costs of shipping with the costs of storage to find the optimum minimum cost level.</a:t>
            </a:r>
            <a:endParaRPr b="0" lang="en-US" sz="2600" spc="-1" strike="noStrike">
              <a:solidFill>
                <a:srgbClr val="000000"/>
              </a:solidFill>
              <a:latin typeface="Constantia"/>
            </a:endParaRPr>
          </a:p>
        </p:txBody>
      </p:sp>
      <p:sp>
        <p:nvSpPr>
          <p:cNvPr id="332" name="Rectangle 4"/>
          <p:cNvSpPr/>
          <p:nvPr/>
        </p:nvSpPr>
        <p:spPr>
          <a:xfrm>
            <a:off x="1828800" y="3657600"/>
            <a:ext cx="5562720" cy="2209680"/>
          </a:xfrm>
          <a:prstGeom prst="rect">
            <a:avLst/>
          </a:pr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3" name="Line 5"/>
          <p:cNvSpPr/>
          <p:nvPr/>
        </p:nvSpPr>
        <p:spPr>
          <a:xfrm>
            <a:off x="2362320" y="3809880"/>
            <a:ext cx="441936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4" name="Line 6"/>
          <p:cNvSpPr/>
          <p:nvPr/>
        </p:nvSpPr>
        <p:spPr>
          <a:xfrm flipV="1">
            <a:off x="2514600" y="3962160"/>
            <a:ext cx="4343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5"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Storage availability              High </a:t>
            </a:r>
            <a:endParaRPr b="0" lang="en-US" sz="2400" spc="-1" strike="noStrike">
              <a:solidFill>
                <a:srgbClr val="000000"/>
              </a:solidFill>
              <a:latin typeface="Verdana"/>
            </a:endParaRPr>
          </a:p>
        </p:txBody>
      </p:sp>
      <p:sp>
        <p:nvSpPr>
          <p:cNvPr id="336"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s</a:t>
            </a:r>
            <a:endParaRPr b="0" lang="en-US" sz="2400" spc="-1" strike="noStrike">
              <a:solidFill>
                <a:srgbClr val="000000"/>
              </a:solidFill>
              <a:latin typeface="Verdana"/>
            </a:endParaRPr>
          </a:p>
        </p:txBody>
      </p:sp>
      <p:sp>
        <p:nvSpPr>
          <p:cNvPr id="337"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a:t>
            </a:r>
            <a:endParaRPr b="0" lang="en-US" sz="2400" spc="-1" strike="noStrike">
              <a:solidFill>
                <a:srgbClr val="000000"/>
              </a:solidFill>
              <a:latin typeface="Verdana"/>
            </a:endParaRPr>
          </a:p>
        </p:txBody>
      </p:sp>
      <p:sp>
        <p:nvSpPr>
          <p:cNvPr id="338"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9"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portation costs</a:t>
            </a:r>
            <a:endParaRPr b="0" lang="en-US" sz="1400" spc="-1" strike="noStrike">
              <a:solidFill>
                <a:srgbClr val="000000"/>
              </a:solidFill>
              <a:latin typeface="Verdana"/>
            </a:endParaRPr>
          </a:p>
        </p:txBody>
      </p:sp>
      <p:sp>
        <p:nvSpPr>
          <p:cNvPr id="340"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orage Costs</a:t>
            </a:r>
            <a:endParaRPr b="0" lang="en-US" sz="1400" spc="-1" strike="noStrike">
              <a:solidFill>
                <a:srgbClr val="000000"/>
              </a:solidFill>
              <a:latin typeface="Verdana"/>
            </a:endParaRPr>
          </a:p>
        </p:txBody>
      </p:sp>
      <p:sp>
        <p:nvSpPr>
          <p:cNvPr id="341"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tal Logistics Cost</a:t>
            </a:r>
            <a:endParaRPr b="0" lang="en-US" sz="1600" spc="-1" strike="noStrike">
              <a:solidFill>
                <a:srgbClr val="000000"/>
              </a:solidFill>
              <a:latin typeface="Verdana"/>
            </a:endParaRPr>
          </a:p>
        </p:txBody>
      </p:sp>
      <p:sp>
        <p:nvSpPr>
          <p:cNvPr id="342" name="Line 18"/>
          <p:cNvSpPr/>
          <p:nvPr/>
        </p:nvSpPr>
        <p:spPr>
          <a:xfrm flipV="1">
            <a:off x="1523880" y="4038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3" name="Line 19"/>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Marketing Intermediaries</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he organizations that the product flows through on its way to the consumer are known as Marketing Intermediari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ustomer Service Concept</a:t>
            </a:r>
            <a:endParaRPr b="0" lang="en-US" sz="5000" spc="-1" strike="noStrike">
              <a:solidFill>
                <a:srgbClr val="04617b"/>
              </a:solidFill>
              <a:latin typeface="Calibri"/>
            </a:endParaRPr>
          </a:p>
        </p:txBody>
      </p:sp>
      <p:sp>
        <p:nvSpPr>
          <p:cNvPr id="34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Concept simply balances the trade-off of the cost of the Total Logistics Cost Concept (Previous Slide) with the costs of providing key elements of customer service such as Communication, Dependability, Convenience and 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1 - Transportation</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ive basic modes of rail, road, air, water and pipelines. (Inter-modal Transportation involves a mixture of method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ach method has distinctive advantages over the other.</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hoice depends on the destination and the produc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Weight out the advantages disadvantages and costs of each</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2 - Warehousing &amp; Materials Handling</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Key Functions include Order Processing and Inventory Managemen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Just-in-time (JIT) inventory is becoming increasingly popular because it affords significant cost saving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5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3 – Order Processing</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Electronic Data Interchange (EDI) has become a critical component of a good logistics process.</a:t>
            </a:r>
            <a:endParaRPr b="0" lang="en-US" sz="19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4 – Inventory management</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hy Hold Inventory?</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uffer against supply slumps/demand bump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etter customer service</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vides a hedge against price increas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tection against uncertain event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Inventory Cost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apital (Cost of warehouse), Servicing (heating the warehouse), Storage (the storage &amp; handling costs) &amp; Risk (Fire and los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rategies to manage the supply chain</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Just-in-time (JIT) inventory is becoming increasingly popular because it affords significant cost saving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Vendor Managed inventory (VMI) retailer sales trip automatic ordering</a:t>
            </a:r>
            <a:endParaRPr b="0" lang="en-US" sz="1600" spc="-1" strike="noStrike">
              <a:solidFill>
                <a:srgbClr val="000000"/>
              </a:solidFill>
              <a:latin typeface="Constantia"/>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3"/>
          <p:cNvGraphicFramePr/>
          <p:nvPr/>
        </p:nvGraphicFramePr>
        <p:xfrm>
          <a:off x="0" y="685800"/>
          <a:ext cx="8381880" cy="5052960"/>
        </p:xfrm>
        <a:graphic>
          <a:graphicData uri="http://schemas.openxmlformats.org/presentationml/2006/ole">
            <p:oleObj r:id="rId1" spid="">
              <p:embed/>
              <p:pic>
                <p:nvPicPr>
                  <p:cNvPr id="259" name="Object 3" descr=""/>
                  <p:cNvPicPr/>
                  <p:nvPr/>
                </p:nvPicPr>
                <p:blipFill>
                  <a:blip r:embed="rId2"/>
                  <a:stretch/>
                </p:blipFill>
                <p:spPr>
                  <a:xfrm>
                    <a:off x="0" y="685800"/>
                    <a:ext cx="8381880" cy="5052960"/>
                  </a:xfrm>
                  <a:prstGeom prst="rect">
                    <a:avLst/>
                  </a:prstGeom>
                  <a:ln w="0">
                    <a:noFill/>
                  </a:ln>
                </p:spPr>
              </p:pic>
            </p:oleObj>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600"/>
            <a:ext cx="7772400" cy="144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Direct Channels</a:t>
            </a:r>
            <a:r>
              <a:rPr b="0" lang="en-GB" sz="4500" spc="-1" strike="noStrike">
                <a:solidFill>
                  <a:srgbClr val="04617b"/>
                </a:solidFill>
                <a:latin typeface="Calibri"/>
              </a:rPr>
              <a:t> vs. Indirect Channels</a:t>
            </a:r>
            <a:endParaRPr b="0" lang="en-US" sz="45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short with few intermediaries -- These are known as Direct Chann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long with many intermediaries -- These are known as Indirect Channe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3"/>
          <p:cNvGraphicFramePr/>
          <p:nvPr/>
        </p:nvGraphicFramePr>
        <p:xfrm>
          <a:off x="1362240" y="838080"/>
          <a:ext cx="7781760" cy="4975200"/>
        </p:xfrm>
        <a:graphic>
          <a:graphicData uri="http://schemas.openxmlformats.org/presentationml/2006/ole">
            <p:oleObj r:id="rId1" spid="">
              <p:embed/>
              <p:pic>
                <p:nvPicPr>
                  <p:cNvPr id="263" name="Object 3" descr=""/>
                  <p:cNvPicPr/>
                  <p:nvPr/>
                </p:nvPicPr>
                <p:blipFill>
                  <a:blip r:embed="rId2"/>
                  <a:stretch/>
                </p:blipFill>
                <p:spPr>
                  <a:xfrm>
                    <a:off x="1362240" y="838080"/>
                    <a:ext cx="7781760" cy="49752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are there Marketing Intermediaries?</a:t>
            </a:r>
            <a:endParaRPr b="0" lang="en-US" sz="4500" spc="-1" strike="noStrike">
              <a:solidFill>
                <a:srgbClr val="04617b"/>
              </a:solidFill>
              <a:latin typeface="Calibri"/>
            </a:endParaRPr>
          </a:p>
        </p:txBody>
      </p:sp>
      <p:sp>
        <p:nvSpPr>
          <p:cNvPr id="265" name=""/>
          <p:cNvSpPr txBox="1"/>
          <p:nvPr/>
        </p:nvSpPr>
        <p:spPr>
          <a:xfrm>
            <a:off x="456840" y="1980720"/>
            <a:ext cx="8178840" cy="4534200"/>
          </a:xfrm>
          <a:prstGeom prst="rect">
            <a:avLst/>
          </a:prstGeom>
          <a:noFill/>
          <a:ln w="0">
            <a:noFill/>
          </a:ln>
        </p:spPr>
        <p:txBody>
          <a:bodyPr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rketing intermediaries allow for the smooth flow of products and product information from the manufacturer to the consumer.</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help manufactures distribute their products, and help consumers easily find and obtain the products that they need to buy.</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reduce the number of contacts necessary in order to make a sale thereby facilitating the marketing proc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86200" y="1371240"/>
            <a:ext cx="54864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nel for your New Honda Car</a:t>
            </a:r>
            <a:br>
              <a:rPr sz="3600"/>
            </a:br>
            <a:endParaRPr b="0" lang="en-US" sz="3600" spc="-1" strike="noStrike">
              <a:solidFill>
                <a:srgbClr val="04617b"/>
              </a:solidFill>
              <a:latin typeface="Calibri"/>
            </a:endParaRPr>
          </a:p>
        </p:txBody>
      </p:sp>
      <p:pic>
        <p:nvPicPr>
          <p:cNvPr id="267" name="Picture 7" descr="Train passes monitored track"/>
          <p:cNvPicPr/>
          <p:nvPr/>
        </p:nvPicPr>
        <p:blipFill>
          <a:blip r:embed="rId1"/>
          <a:stretch/>
        </p:blipFill>
        <p:spPr>
          <a:xfrm>
            <a:off x="1295280" y="2362320"/>
            <a:ext cx="2667240" cy="2009520"/>
          </a:xfrm>
          <a:prstGeom prst="rect">
            <a:avLst/>
          </a:prstGeom>
          <a:ln w="0">
            <a:noFill/>
          </a:ln>
        </p:spPr>
      </p:pic>
      <p:pic>
        <p:nvPicPr>
          <p:cNvPr id="268" name="Picture 15" descr="concept"/>
          <p:cNvPicPr/>
          <p:nvPr/>
        </p:nvPicPr>
        <p:blipFill>
          <a:blip r:embed="rId2"/>
          <a:stretch/>
        </p:blipFill>
        <p:spPr>
          <a:xfrm>
            <a:off x="1739880" y="4656240"/>
            <a:ext cx="1473120" cy="761760"/>
          </a:xfrm>
          <a:prstGeom prst="rect">
            <a:avLst/>
          </a:prstGeom>
          <a:ln w="0">
            <a:noFill/>
          </a:ln>
        </p:spPr>
      </p:pic>
      <p:pic>
        <p:nvPicPr>
          <p:cNvPr id="269" name="Picture 19" descr="blk_frtlnr_classic_auto_carrier"/>
          <p:cNvPicPr/>
          <p:nvPr/>
        </p:nvPicPr>
        <p:blipFill>
          <a:blip r:embed="rId3"/>
          <a:stretch/>
        </p:blipFill>
        <p:spPr>
          <a:xfrm>
            <a:off x="4114800" y="4572000"/>
            <a:ext cx="1778040" cy="1181160"/>
          </a:xfrm>
          <a:prstGeom prst="rect">
            <a:avLst/>
          </a:prstGeom>
          <a:ln w="0">
            <a:noFill/>
          </a:ln>
        </p:spPr>
      </p:pic>
      <p:pic>
        <p:nvPicPr>
          <p:cNvPr id="270" name="Picture 23" descr="oceanex"/>
          <p:cNvPicPr/>
          <p:nvPr/>
        </p:nvPicPr>
        <p:blipFill>
          <a:blip r:embed="rId4"/>
          <a:stretch/>
        </p:blipFill>
        <p:spPr>
          <a:xfrm>
            <a:off x="3733920" y="3429000"/>
            <a:ext cx="2971800" cy="1238400"/>
          </a:xfrm>
          <a:prstGeom prst="rect">
            <a:avLst/>
          </a:prstGeom>
          <a:ln w="0">
            <a:noFill/>
          </a:ln>
        </p:spPr>
      </p:pic>
      <p:pic>
        <p:nvPicPr>
          <p:cNvPr id="271" name="Picture 5" descr="Honda of Canada Mfg. (HCM)"/>
          <p:cNvPicPr/>
          <p:nvPr/>
        </p:nvPicPr>
        <p:blipFill>
          <a:blip r:embed="rId5"/>
          <a:stretch/>
        </p:blipFill>
        <p:spPr>
          <a:xfrm>
            <a:off x="304920" y="576360"/>
            <a:ext cx="3047760" cy="1465200"/>
          </a:xfrm>
          <a:prstGeom prst="rect">
            <a:avLst/>
          </a:prstGeom>
          <a:ln w="0">
            <a:noFill/>
          </a:ln>
        </p:spPr>
      </p:pic>
      <p:sp>
        <p:nvSpPr>
          <p:cNvPr id="272" name=""/>
          <p:cNvSpPr txBox="1"/>
          <p:nvPr/>
        </p:nvSpPr>
        <p:spPr>
          <a:xfrm>
            <a:off x="4648320" y="1599840"/>
            <a:ext cx="4038480" cy="2189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3" name="Picture 25" descr="http://gadgetophilia.com/wp-content/uploads/2009/03/honda-civic-hybrid-2008-picture.jpg"/>
          <p:cNvPicPr/>
          <p:nvPr/>
        </p:nvPicPr>
        <p:blipFill>
          <a:blip r:embed="rId6"/>
          <a:stretch/>
        </p:blipFill>
        <p:spPr>
          <a:xfrm>
            <a:off x="228600" y="1600200"/>
            <a:ext cx="2057400" cy="150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ctions of an Intermediary</a:t>
            </a:r>
            <a:endParaRPr b="0" lang="en-US" sz="5000" spc="-1" strike="noStrike">
              <a:solidFill>
                <a:srgbClr val="04617b"/>
              </a:solidFill>
              <a:latin typeface="Calibri"/>
            </a:endParaRPr>
          </a:p>
        </p:txBody>
      </p:sp>
      <p:graphicFrame>
        <p:nvGraphicFramePr>
          <p:cNvPr id="275" name="Object 4"/>
          <p:cNvGraphicFramePr/>
          <p:nvPr/>
        </p:nvGraphicFramePr>
        <p:xfrm>
          <a:off x="990720" y="2011320"/>
          <a:ext cx="7238880" cy="3379680"/>
        </p:xfrm>
        <a:graphic>
          <a:graphicData uri="http://schemas.openxmlformats.org/presentationml/2006/ole">
            <p:oleObj r:id="rId1" spid="">
              <p:embed/>
              <p:pic>
                <p:nvPicPr>
                  <p:cNvPr id="276" name="Object 4" descr=""/>
                  <p:cNvPicPr/>
                  <p:nvPr/>
                </p:nvPicPr>
                <p:blipFill>
                  <a:blip r:embed="rId2"/>
                  <a:stretch/>
                </p:blipFill>
                <p:spPr>
                  <a:xfrm>
                    <a:off x="990720" y="2011320"/>
                    <a:ext cx="723888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8:28:31Z</dcterms:modified>
  <cp:revision>17</cp:revision>
  <dc:subject/>
  <dc:title>Marketing Channels and Wholesaling</dc:title>
</cp:coreProperties>
</file>